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DEAF-CF1B-4B16-B663-A510E9FBC1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2C6-12B3-4D85-A93D-BF147BF5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036-DE41-4F9F-9810-D3FE53A9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52B-D222-42BC-BECF-D0088C4E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BA3-DA56-4EC0-92FB-777421CA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2290-37ED-4F45-93BC-C92E9737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36DC-5A97-4AA9-A29E-4D7CF680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12A9-B547-4CF5-A59F-2BD4D17D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1F2F-AB43-4DF2-A7B9-363946DE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FF42-B6D4-484E-9D87-D2F11AA3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35A7-5402-4404-8BFB-0BC94F0C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6595-C72D-4794-923C-25E805E6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DC5-90C6-4859-B99B-32BCB745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8351-74EF-4492-9065-6028374B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B84B-076D-41E7-8AC6-CECA97CF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7B23-4D07-4589-8FAB-C77CE246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C875-5F76-4D1C-ACE4-70BB04CA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C190-4495-4440-B6DD-E40F5920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B7A-3476-4927-A345-E39A5927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27A-4DA3-43A5-8C46-CBA433DA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816-51B2-4C98-99D8-DF047F5A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E20-9E00-4394-B7A3-82E76785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766-F004-41DB-AE9D-56C87446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A6D-9EC6-43E5-B4C9-C745FAC7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872-1748-4C9A-985A-4844597C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D38E-45C6-403B-AC68-61B57986A5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C7B1-5A1B-4F79-8471-0B225C5766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riting A Good Ess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 Good Essay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Beginning, Middle and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learly Underst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 Essay Is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ritten speech, used to talk about a given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eginn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3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-Intro and a main overview of the main, and primary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2-Thesis Statement (a statement that proves a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3-Lead or conversion to start you body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o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is the main section of the es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put into 1 or many para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s about the subjects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ragraph is a different sub-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all info. being pres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ending paragraph sums up the entire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Ending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r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 Thesi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ly touch on every topic in your essay in the last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ost essays, the Ending paragraph is what people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07:12Z</dcterms:created>
  <dc:creator>Ben Swanson</dc:creator>
  <dc:description/>
  <dc:language>en-US</dc:language>
  <cp:lastModifiedBy>RomaK</cp:lastModifiedBy>
  <dcterms:modified xsi:type="dcterms:W3CDTF">2015-09-02T09:49:12Z</dcterms:modified>
  <cp:revision>4</cp:revision>
  <dc:subject/>
  <dc:title>Writing A Good Essay</dc:title>
</cp:coreProperties>
</file>